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59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14.jpeg" ContentType="image/jpeg"/>
  <Override PartName="/ppt/media/image41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58.png" ContentType="image/png"/>
  <Override PartName="/ppt/media/image40.jpeg" ContentType="image/jpeg"/>
  <Override PartName="/ppt/media/image13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39.jpeg" ContentType="image/jpeg"/>
  <Override PartName="/ppt/media/image38.png" ContentType="image/png"/>
  <Override PartName="/ppt/media/image34.jpeg" ContentType="image/jpeg"/>
  <Override PartName="/ppt/media/image7.jpeg" ContentType="image/jpeg"/>
  <Override PartName="/ppt/media/image51.jpeg" ContentType="image/jpeg"/>
  <Override PartName="/ppt/media/image28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77.xml.rels" ContentType="application/vnd.openxmlformats-package.relationships+xml"/>
  <Override PartName="/ppt/slides/_rels/slide147.xml.rels" ContentType="application/vnd.openxmlformats-package.relationships+xml"/>
  <Override PartName="/ppt/slides/_rels/slide181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6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7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17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79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70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5902-9A38-409C-815E-7449F7AEE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5A90-D515-4863-85D8-2A5B9FA2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0F21-3A7B-4F54-ADDC-EEB48FA30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D79F-2E38-4663-BDD3-989A1587E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04D6-1F74-4E14-BDE3-42C01489A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757E-DFA2-4BE3-B805-03786F39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DA9C-F37B-437D-A017-C1914576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C6AA-68EB-48E7-B3C5-BA91855A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693F-67F1-4706-8F10-270EE985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744F-89E0-4CF1-A3E9-E717F319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5D8D-EF30-4556-9C80-20F2B0BE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506B-72A4-40F3-A994-2196E911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ECCA-8BC1-4C85-ACA0-9628AF23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9A1C-FD5E-47D8-B068-EEC2DF15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E0F0-5C37-4E68-B88F-40B8D45A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A25D-3F4E-4A4F-9E7E-EA5E3270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EFE8-7312-4AA9-83FB-02E2D4FB0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D561-A659-4E16-A713-06ED5753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C96D-CD0B-474A-A420-5834DE2C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1958-F0DF-4AA7-9C88-EC50C9F2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82C0-E97A-43BD-83A0-F1F4EAD1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B13E-4447-4D3B-9628-CE398F10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CE1D-8EDF-4C2C-86D0-BCC459E9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29B9-7605-48B1-B202-2D92EBF5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600" y="5702400"/>
            <a:ext cx="9175680" cy="1171440"/>
            <a:chOff x="-12600" y="5702400"/>
            <a:chExt cx="9175680" cy="1171440"/>
          </a:xfrm>
        </p:grpSpPr>
        <p:sp>
          <p:nvSpPr>
            <p:cNvPr id="1" name="Freeform 3"/>
            <p:cNvSpPr/>
            <p:nvPr/>
          </p:nvSpPr>
          <p:spPr>
            <a:xfrm>
              <a:off x="111240" y="5702400"/>
              <a:ext cx="8997840" cy="928440"/>
            </a:xfrm>
            <a:prstGeom prst="pie">
              <a:avLst/>
            </a:prstGeom>
            <a:solidFill>
              <a:srgbClr val="8686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12600" y="5743440"/>
              <a:ext cx="9175680" cy="113040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FC68-AC43-414A-864E-BA76D8A058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3416400"/>
            <a:ext cx="9167760" cy="3457440"/>
            <a:chOff x="0" y="3416400"/>
            <a:chExt cx="9167760" cy="3457440"/>
          </a:xfrm>
        </p:grpSpPr>
        <p:sp>
          <p:nvSpPr>
            <p:cNvPr id="45" name="Freeform 3"/>
            <p:cNvSpPr/>
            <p:nvPr/>
          </p:nvSpPr>
          <p:spPr>
            <a:xfrm>
              <a:off x="146160" y="3416400"/>
              <a:ext cx="8993160" cy="3436920"/>
            </a:xfrm>
            <a:prstGeom prst="pie">
              <a:avLst/>
            </a:prstGeom>
            <a:solidFill>
              <a:srgbClr val="8686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3427560"/>
              <a:ext cx="9167760" cy="344628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47B3-53F3-40AE-A61C-E9D7BFFD5E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122&amp;task=viewList&amp;listId=354203" TargetMode="External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wog.net/uploads/Jester%25201.jpg&amp;imgrefurl=http://www.bwog.net/tags/jester&amp;usg=__k7e4oEtW117nBZyOfnAg5gNse7s=&amp;h=457&amp;w=300&amp;sz=20&amp;hl=EN&amp;start=4&amp;tbnid=e28HFnJ9KhklHM:&amp;tbnh=128&amp;tbnw=84&amp;prev=/images?q=jester&amp;gbv=2&amp;hl=EN" TargetMode="External"/><Relationship Id="rId2" Type="http://schemas.openxmlformats.org/officeDocument/2006/relationships/image" Target="../media/image46.jpeg"/><Relationship Id="rId3" Type="http://schemas.openxmlformats.org/officeDocument/2006/relationships/hyperlink" Target="http://images.google.com/imgres?imgurl=http://users.ox.ac.uk/~kgroup/tools/nest_photos/nest0002.jpg&amp;imgrefurl=http://users.ox.ac.uk/~kgroup/tools/nest_photos.shtml&amp;usg=__Fy4qmjRaEcilOp5DDmLHEyHV40E=&amp;h=375&amp;w=500&amp;sz=251&amp;hl=EN&amp;start=5&amp;tbnid=D_Ann_rhaPu7dM:&amp;tbnh=98&amp;tbnw=130&amp;prev=/images?q=nest&amp;gbv=2&amp;hl=EN" TargetMode="External"/><Relationship Id="rId4" Type="http://schemas.openxmlformats.org/officeDocument/2006/relationships/image" Target="../media/image47.jpeg"/><Relationship Id="rId5" Type="http://schemas.openxmlformats.org/officeDocument/2006/relationships/hyperlink" Target="http://images.google.com/imgres?imgurl=http://rajagro.in/yahoo_site_admin/assets/images/radpest.255121535_std.gif&amp;imgrefurl=http://rajagro.in/services&amp;usg=__TuX8jX49XxVZsjLgPAeB3lwhP8o=&amp;h=384&amp;w=513&amp;sz=16&amp;hl=EN&amp;start=1&amp;tbnid=vzjv-1WC8773_M:&amp;tbnh=98&amp;tbnw=131&amp;prev=/images?q=pest&amp;gbv=2&amp;hl=EN" TargetMode="External"/><Relationship Id="rId6" Type="http://schemas.openxmlformats.org/officeDocument/2006/relationships/image" Target="../media/image48.jpeg"/><Relationship Id="rId7" Type="http://schemas.openxmlformats.org/officeDocument/2006/relationships/hyperlink" Target="http://images.google.com/imgres?imgurl=http://www.woodruffforpets.com/embroidered/ladies_vest_powderblue.jpg&amp;imgrefurl=http://www.woodruffforpets.com/embroidered-personalized-dog-cat-breed-jacket-vest-womans-mens.html&amp;usg=___Jm0LT_nuTQA-H8o71CEL4ladcQ=&amp;h=492&amp;w=345&amp;sz=130&amp;hl=EN&amp;start=7&amp;tbnid=SJpZU8f7t_JgwM:&amp;tbnh=130&amp;tbnw=91&amp;prev=/images?q=vest&amp;gbv=2&amp;hl=EN" TargetMode="External"/><Relationship Id="rId8" Type="http://schemas.openxmlformats.org/officeDocument/2006/relationships/image" Target="../media/image49.jpeg"/><Relationship Id="rId9" Type="http://schemas.openxmlformats.org/officeDocument/2006/relationships/hyperlink" Target="http://images.google.com/imgres?imgurl=http://www.cedaridge-farm.com/oak-hope-chest-kit.jpg&amp;imgrefurl=http://www.cedaridge-farm.com/&amp;usg=__sjtnI3_qoRjygJIKs6o-c_OzKtM=&amp;h=468&amp;w=446&amp;sz=21&amp;hl=EN&amp;start=11&amp;tbnid=70fCZAL45XjLoM:&amp;tbnh=128&amp;tbnw=122&amp;prev=/images?q=chest&amp;gbv=2&amp;hl=EN" TargetMode="External"/><Relationship Id="rId10" Type="http://schemas.openxmlformats.org/officeDocument/2006/relationships/image" Target="../media/image50.jpeg"/><Relationship Id="rId11" Type="http://schemas.openxmlformats.org/officeDocument/2006/relationships/image" Target="../media/image51.jpeg"/><Relationship Id="rId1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Class%20Tools/Strongest%20One.htm" TargetMode="External"/><Relationship Id="rId2" Type="http://schemas.openxmlformats.org/officeDocument/2006/relationships/hyperlink" Target="http://www.scottsboro.org/~flewis/spellmaster/Strongest%20One/jigword2.html" TargetMode="External"/><Relationship Id="rId3" Type="http://schemas.openxmlformats.org/officeDocument/2006/relationships/hyperlink" Target="http://www.scottsboro.org/~flewis/spellmaster/Strongest%20One/matchword2.html" TargetMode="External"/><Relationship Id="rId4" Type="http://schemas.openxmlformats.org/officeDocument/2006/relationships/hyperlink" Target="http://www.scottsboro.org/~flewis/spellmaster/Strongest%20One/speedword2.html" TargetMode="External"/><Relationship Id="rId5" Type="http://schemas.openxmlformats.org/officeDocument/2006/relationships/hyperlink" Target="http://www.scottsboro.org/~flewis/spellmaster/Strongest%20One/wordsearch2.html" TargetMode="External"/><Relationship Id="rId6" Type="http://schemas.openxmlformats.org/officeDocument/2006/relationships/hyperlink" Target="http://www.scottsboro.org/~flewis/spellmaster/Strongest%20One/wordweb.html" TargetMode="External"/><Relationship Id="rId7" Type="http://schemas.openxmlformats.org/officeDocument/2006/relationships/hyperlink" Target="http://www.spellingcity.com/index.php?option=com_spellcity&amp;task=viewList&amp;listId=825867" TargetMode="External"/><Relationship Id="rId8" Type="http://schemas.openxmlformats.org/officeDocument/2006/relationships/hyperlink" Target="http://www.spellingcity.com/index.php?option=com_spellcity&amp;task=viewList&amp;listId=825871" TargetMode="External"/><Relationship Id="rId9" Type="http://schemas.openxmlformats.org/officeDocument/2006/relationships/hyperlink" Target="http://www.scottsboro.org/~flewis/spellmaster/Strongest%20One%20Spelling%20Words/speedword2.html" TargetMode="External"/><Relationship Id="rId10" Type="http://schemas.openxmlformats.org/officeDocument/2006/relationships/hyperlink" Target="http://www.scottsboro.org/~flewis/spellmaster/Strongest%20One%20Spelling%20Words/wordweb.html" TargetMode="External"/><Relationship Id="rId11" Type="http://schemas.openxmlformats.org/officeDocument/2006/relationships/hyperlink" Target="http://www.quia.com/hm/313665.html" TargetMode="External"/><Relationship Id="rId12" Type="http://schemas.openxmlformats.org/officeDocument/2006/relationships/hyperlink" Target="http://www.spellingcity.com/index.php?option=com_spellcity&amp;Itemid=122&amp;task=viewList&amp;listId=354203" TargetMode="External"/><Relationship Id="rId13" Type="http://schemas.openxmlformats.org/officeDocument/2006/relationships/hyperlink" Target="http://www.scottsboro.org/~flewis/SF%20Reading%20Street/Hot%20Potatoes/Strongest_One.htm" TargetMode="External"/><Relationship Id="rId14" Type="http://schemas.openxmlformats.org/officeDocument/2006/relationships/hyperlink" Target="http://www.spellingcity.com/index.php?option=com_spellcity&amp;task=viewList&amp;listId=825878" TargetMode="External"/><Relationship Id="rId1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122&amp;task=viewList&amp;listId=354203" TargetMode="Externa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images.google.com/imgres?imgurl=http://images.buycostumes.com/mgen/merchandiser/33922.jpg&amp;imgrefurl=http://www.buycostumes.com/Cop-Set-Plus-Adult/33931/ProductDetail.aspx&amp;usg=__gsZpvIsZ6hTDZaa-r8_O-1KeBOM=&amp;h=4482&amp;w=2688&amp;sz=475&amp;hl=EN&amp;start=29&amp;tbnid=eiLST36EZLmzUM:&amp;tbnh=150&amp;tbnw=90&amp;prev=/images?q=cop&amp;gbv=2&amp;ndsp=20&amp;hl=EN&amp;sa=N&amp;start=20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ages.google.com/imgres?imgurl=http://euro-quest.tripod.com/sitebuildercontent/sitebuilderpictures/swing-dance-classes-lindy-hop-image-1001.gif&amp;imgrefurl=http://euro-quest.tripod.com/oslo_swing_lindy_hop_dance_classes/&amp;usg=__PgLdY3Hw18QcU492H5n1qCPqydQ=&amp;h=335&amp;w=300&amp;sz=37&amp;hl=EN&amp;start=2&amp;tbnid=tmLxfPC5z_V5UM:&amp;tbnh=119&amp;tbnw=107&amp;prev=/images?q=hop&amp;gbv=2&amp;hl=EN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images.google.com/imgres?imgurl=http://www.acejanitorial.co.uk/images/products/HA014.JPG&amp;imgrefurl=https://www.mahalo.com/Mop&amp;usg=__Vh38ruPleV5cCQzzgzn-8Aw1fJY=&amp;h=520&amp;w=624&amp;sz=123&amp;hl=EN&amp;start=8&amp;tbnid=5uknswoQzuAEqM:&amp;tbnh=113&amp;tbnw=136&amp;prev=/images?q=mop&amp;gbv=2&amp;hl=EN" TargetMode="External"/><Relationship Id="rId7" Type="http://schemas.openxmlformats.org/officeDocument/2006/relationships/image" Target="../media/image11.jpeg"/><Relationship Id="rId8" Type="http://schemas.openxmlformats.org/officeDocument/2006/relationships/hyperlink" Target="http://images.google.com/imgres?imgurl=http://groveinteriors.com.au/groveint/components/com_virtuemart/shop_image/product/ddf77a49fe560c6eb1177d9ae21dd80c.jpg&amp;imgrefurl=http://groveinteriors.com.au/groveint/index.php?page=shop.browse&amp;category_id=19&amp;option=com_virtuemart&amp;Itemid=26&amp;usg=__P46e5ibHT_a0lRAH-tRG3KS4ddY=&amp;h=320&amp;w=320&amp;sz=24&amp;hl=EN&amp;start=7&amp;tbnid=uU4KMiEtfH_vLM:&amp;tbnh=118&amp;tbnw=118&amp;prev=/images?q=toy+top&amp;gbv=2&amp;hl=EN" TargetMode="External"/><Relationship Id="rId9" Type="http://schemas.openxmlformats.org/officeDocument/2006/relationships/image" Target="../media/image12.jpeg"/><Relationship Id="rId10" Type="http://schemas.openxmlformats.org/officeDocument/2006/relationships/hyperlink" Target="http://images.google.com/imgres?imgurl=http://www.dri.ne.jp/english/kanran/images/shop.jpg&amp;imgrefurl=http://www.dri.ne.jp/english/kanran/shop.html&amp;usg=__MwlQFK0GpWHcf6blbJDGTP2twkY=&amp;h=350&amp;w=523&amp;sz=63&amp;hl=EN&amp;start=17&amp;tbnid=mgJXSwkkPYX46M:&amp;tbnh=88&amp;tbnw=131&amp;prev=/images?q=shop&amp;gbv=2&amp;hl=EN" TargetMode="External"/><Relationship Id="rId11" Type="http://schemas.openxmlformats.org/officeDocument/2006/relationships/image" Target="../media/image13.jpeg"/><Relationship Id="rId12" Type="http://schemas.openxmlformats.org/officeDocument/2006/relationships/hyperlink" Target="http://images.google.com/imgres?imgurl=http://z.about.com/d/localfoods/1/0/x/-/-/-/LeekChop.jpg&amp;imgrefurl=http://localfoods.about.com/od/preparationtips/ss/CleanLeeks_5.htm&amp;usg=__ke4XNitKx2ElZ1MuWpP9RJ9QuuE=&amp;h=375&amp;w=500&amp;sz=76&amp;hl=EN&amp;start=20&amp;tbnid=euo4iGZOSW5sQM:&amp;tbnh=98&amp;tbnw=130&amp;prev=/images?q=chop&amp;gbv=2&amp;hl=EN" TargetMode="External"/><Relationship Id="rId13" Type="http://schemas.openxmlformats.org/officeDocument/2006/relationships/image" Target="../media/image14.jpeg"/><Relationship Id="rId14" Type="http://schemas.openxmlformats.org/officeDocument/2006/relationships/hyperlink" Target="http://images.google.com/imgres?imgurl=http://www.intercrop.dk/images/P1_Erik%2520Pictures/2004/subsequent%2520crop%2520growth,%252007.07.04.jpg&amp;imgrefurl=http://www.intercrop.dk/Pictures.htm&amp;usg=__0NBeuPaI7FRcy0fxTyOkx38lBn0=&amp;h=1920&amp;w=2560&amp;sz=1074&amp;hl=EN&amp;start=8&amp;tbnid=1wYpl3u97J5osM:&amp;tbnh=113&amp;tbnw=150&amp;prev=/images?q=crop&amp;gbv=2&amp;hl=EN" TargetMode="External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images.google.com/imgres?imgurl=http://www.pittjug.org/b2b/pics/Plastic_Trash_Can__Dustbin__Garbage_Can__Waste_Bin__Garbage_Container.jpg&amp;imgrefurl=http://www.pittjug.org/b2b/led_displays/1/&amp;usg=__cbOCTmiZqpPflmcXGAtObqzbtus=&amp;h=359&amp;w=359&amp;sz=13&amp;hl=EN&amp;start=16&amp;tbnid=TafU2lMUw6sIwM:&amp;tbnh=121&amp;tbnw=121&amp;prev=/images?q=bin&amp;gbv=2&amp;hl=EN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images.google.com/imgres?imgurl=http://dolphinstudy.com/images/dorsal_fin_1.jpg&amp;imgrefurl=http://dolphinstudy.com/The_Study.html&amp;usg=__q6He0w7H6-Focd3R31V5i05udhM=&amp;h=350&amp;w=480&amp;sz=50&amp;hl=EN&amp;start=1&amp;tbnid=b3v0VBqCboDuLM:&amp;tbnh=94&amp;tbnw=129&amp;prev=/images?q=fin&amp;gbv=2&amp;hl=EN" TargetMode="External"/><Relationship Id="rId5" Type="http://schemas.openxmlformats.org/officeDocument/2006/relationships/image" Target="../media/image17.jpeg"/><Relationship Id="rId6" Type="http://schemas.openxmlformats.org/officeDocument/2006/relationships/hyperlink" Target="http://images.google.com/imgres?imgurl=http://moberly.k12.mo.us/blogs/pashriver/files/2009/03/cotton_gin.jpg&amp;imgrefurl=http://moberly.k12.mo.us/blogs/pashriver/&amp;usg=__0qxERHIdqVS6GsrdkmYyC4O9WHo=&amp;h=301&amp;w=312&amp;sz=18&amp;hl=EN&amp;start=1&amp;tbnid=aOE8fwFcAalVaM:&amp;tbnh=113&amp;tbnw=117&amp;prev=/images?q=cotton+gin&amp;gbv=2&amp;ndsp=20&amp;hl=EN&amp;sa=N" TargetMode="External"/><Relationship Id="rId7" Type="http://schemas.openxmlformats.org/officeDocument/2006/relationships/image" Target="../media/image18.jpeg"/><Relationship Id="rId8" Type="http://schemas.openxmlformats.org/officeDocument/2006/relationships/hyperlink" Target="http://images.google.com/imgres?imgurl=http://www.wired.com/images/article/full/2008/04/safety_pin_300px.jpg&amp;imgrefurl=http://www.wired.com/science/discoveries/news/2008/04/dayintech_0410&amp;usg=__Uki6kwn3pTRGtLI1LuoAMMqBkSg=&amp;h=300&amp;w=422&amp;sz=31&amp;hl=EN&amp;start=2&amp;tbnid=B9AlI7rmoJ05iM:&amp;tbnh=90&amp;tbnw=126&amp;prev=/images?q=pin&amp;gbv=2&amp;hl=EN" TargetMode="External"/><Relationship Id="rId9" Type="http://schemas.openxmlformats.org/officeDocument/2006/relationships/image" Target="../media/image19.jpeg"/><Relationship Id="rId10" Type="http://schemas.openxmlformats.org/officeDocument/2006/relationships/hyperlink" Target="http://images.google.com/imgres?imgurl=http://blogs.adobe.com/collabmethods/images/tin-can.jpg&amp;imgrefurl=http://blogs.adobe.com/collabmethods/afcs/&amp;usg=__EEndWSvQLOmxQvBkg3Nm8fJsvW0=&amp;h=280&amp;w=345&amp;sz=15&amp;hl=EN&amp;start=5&amp;tbnid=2jtrxu0NR0QatM:&amp;tbnh=97&amp;tbnw=120&amp;prev=/images?q=tin&amp;gbv=2&amp;hl=EN" TargetMode="External"/><Relationship Id="rId11" Type="http://schemas.openxmlformats.org/officeDocument/2006/relationships/image" Target="../media/image20.jpeg"/><Relationship Id="rId12" Type="http://schemas.openxmlformats.org/officeDocument/2006/relationships/hyperlink" Target="http://images.google.com/imgres?imgurl=http://i90.photobucket.com/albums/k257/jkane66/shin.jpg&amp;imgrefurl=http://runningintooblivion.wordpress.com/2007/10/02/dealing-with-injuries-shin-splints/&amp;usg=__8MDKOQghuoouxq4dE7rdbsYeenQ=&amp;h=551&amp;w=325&amp;sz=63&amp;hl=EN&amp;start=9&amp;tbnid=woo9ux_BCcjoOM:&amp;tbnh=133&amp;tbnw=78&amp;prev=/images?q=shin&amp;gbv=2&amp;ndsp=20&amp;hl=EN&amp;sa=N" TargetMode="External"/><Relationship Id="rId13" Type="http://schemas.openxmlformats.org/officeDocument/2006/relationships/image" Target="../media/image21.jpeg"/><Relationship Id="rId14" Type="http://schemas.openxmlformats.org/officeDocument/2006/relationships/hyperlink" Target="http://images.google.com/imgres?imgurl=http://www.organicnutrition.co.uk/weight-loss/chin2.jpg&amp;imgrefurl=http://www.organicnutrition.co.uk/weight-loss/chin.htm&amp;usg=__tc0nFruxCEMwBoAYqokyTfryAM8=&amp;h=309&amp;w=504&amp;sz=16&amp;hl=EN&amp;start=58&amp;tbnid=diZZBqcbcOv50M:&amp;tbnh=80&amp;tbnw=130&amp;prev=/images?q=chin&amp;gbv=2&amp;ndsp=20&amp;hl=EN&amp;sa=N&amp;start=40" TargetMode="External"/><Relationship Id="rId15" Type="http://schemas.openxmlformats.org/officeDocument/2006/relationships/image" Target="../media/image22.jpeg"/><Relationship Id="rId16" Type="http://schemas.openxmlformats.org/officeDocument/2006/relationships/hyperlink" Target="http://images.google.com/imgres?imgurl=http://williamcalvin.com/bookshelf/img/Bonobo%252011yo%2520male%2520Keke%2520&amp;%25202yo%2520female%2520Bokela%2520grin%2520Twycross%2520727a.jpg&amp;imgrefurl=http://williamcalvin.com/bookshelf/Twycross%2520Zoo%2520directions.htm&amp;usg=__v0WHTKErkZxb6Q9idDjljkakfr0=&amp;h=351&amp;w=300&amp;sz=105&amp;hl=EN&amp;start=13&amp;tbnid=0i-yESYIH9ZY4M:&amp;tbnh=120&amp;tbnw=103&amp;prev=/images?q=grin&amp;gbv=2&amp;hl=EN" TargetMode="External"/><Relationship Id="rId17" Type="http://schemas.openxmlformats.org/officeDocument/2006/relationships/image" Target="../media/image23.jpeg"/><Relationship Id="rId18" Type="http://schemas.openxmlformats.org/officeDocument/2006/relationships/hyperlink" Target="http://images.google.com/imgres?imgurl=http://www.nlm.nih.gov/MEDLINEPLUS/ency/images/ency/fullsize/19679.jpg&amp;imgrefurl=http://www.nlm.nih.gov/MEDLINEPLUS/ency/imagepages/19679.htm&amp;usg=__zIfK3Z7yrQUn1qOf-2bNHXLcJ4o=&amp;h=320&amp;w=400&amp;sz=31&amp;hl=EN&amp;start=5&amp;tbnid=Uy0fOUciL6MllM:&amp;tbnh=99&amp;tbnw=124&amp;prev=/images?q=skin&amp;gbv=2&amp;hl=EN" TargetMode="External"/><Relationship Id="rId19" Type="http://schemas.openxmlformats.org/officeDocument/2006/relationships/image" Target="../media/image24.jpeg"/><Relationship Id="rId2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pellmaster/Strongest%20One/jigword2.html" TargetMode="Externa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image" Target="../media/image8.png"/><Relationship Id="rId3" Type="http://schemas.openxmlformats.org/officeDocument/2006/relationships/hyperlink" Target="http://images.google.com/imgres?imgurl=http://mainemilitarymuseum.org/images/Smithsonian%25202.jpg&amp;imgrefurl=http://mainemilitarymuseum.org/museum.htm&amp;usg=__hsFhkL6d2PYdNFdBQocOx7f-eYc=&amp;h=816&amp;w=1229&amp;sz=346&amp;hl=EN&amp;start=7&amp;tbnid=1b-A-6cTFoPl1M:&amp;tbnh=100&amp;tbnw=150&amp;prev=/images?q=smithsonian+exhibits&amp;gbv=2&amp;hl=EN" TargetMode="External"/><Relationship Id="rId4" Type="http://schemas.openxmlformats.org/officeDocument/2006/relationships/image" Target="../media/image26.jpeg"/><Relationship Id="rId5" Type="http://schemas.openxmlformats.org/officeDocument/2006/relationships/hyperlink" Target="http://images.google.com/imgres?imgurl=http://lh3.ggpht.com/_kP15EMzx54A/R17CZ3Ul9VI/AAAAAAAAAjQ/CT6DppJIKnU/IMG_0629.jpg&amp;imgrefurl=http://picasaweb.google.com/lh/photo/6_dCp3UGSoAl-hbG00znsw&amp;usg=__nLGaqaRK7N4xzg9p0gKFV1unZ5M=&amp;h=1200&amp;w=1600&amp;sz=16&amp;hl=EN&amp;start=20&amp;tbnid=RUyx-jjRMBT9YM:&amp;tbnh=113&amp;tbnw=150&amp;prev=/images?q=smithsonian+exhibits&amp;gbv=2&amp;hl=EN" TargetMode="External"/><Relationship Id="rId6" Type="http://schemas.openxmlformats.org/officeDocument/2006/relationships/image" Target="../media/image27.jpeg"/><Relationship Id="rId7" Type="http://schemas.openxmlformats.org/officeDocument/2006/relationships/hyperlink" Target="http://images.google.com/imgres?imgurl=http://image62.webshots.com/62/7/69/85/391576985RuMUYj_fs.jpg&amp;imgrefurl=http://travel.webshots.com/photo/1391576985073897170RuMUYj&amp;usg=__c0Po-B8AKWKcshqfLjAWRs8kUpA=&amp;h=1704&amp;w=2272&amp;sz=431&amp;hl=EN&amp;start=26&amp;tbnid=V8lA7Kg-jjEwOM:&amp;tbnh=112&amp;tbnw=150&amp;prev=/images?q=smithsonian+exhibits&amp;start=20&amp;gbv=2&amp;ndsp=20&amp;hl=EN&amp;sa=N" TargetMode="External"/><Relationship Id="rId8" Type="http://schemas.openxmlformats.org/officeDocument/2006/relationships/image" Target="../media/image28.jpeg"/><Relationship Id="rId9" Type="http://schemas.openxmlformats.org/officeDocument/2006/relationships/hyperlink" Target="http://images.google.com/imgres?imgurl=http://www.visitingdc.com/images/smithsonian-dinosaur.jpg&amp;imgrefurl=http://www.visitingdc.com/museum/smithsonian-dinosaur.htm&amp;usg=__GEJuE6eixU1jKhqQM7uUqiXrhL0=&amp;h=377&amp;w=620&amp;sz=109&amp;hl=EN&amp;start=36&amp;tbnid=tJZjy7avaWEJkM:&amp;tbnh=83&amp;tbnw=136&amp;prev=/images?q=smithsonian+exhibits&amp;start=20&amp;gbv=2&amp;ndsp=20&amp;hl=EN&amp;sa=N" TargetMode="External"/><Relationship Id="rId10" Type="http://schemas.openxmlformats.org/officeDocument/2006/relationships/image" Target="../media/image29.jpeg"/><Relationship Id="rId11" Type="http://schemas.openxmlformats.org/officeDocument/2006/relationships/hyperlink" Target="http://images.google.com/imgres?imgurl=http://www.postalmuseum.si.edu/images/exhibits/2_15_jrduckstamp-2005-lg.jpg&amp;imgrefurl=http://www.postalmuseum.si.edu/exhibits/2_15_jrduckstamp-2005.html&amp;usg=__yoJCNh3GYAJ48DIYjIproLajLDk=&amp;h=359&amp;w=523&amp;sz=74&amp;hl=EN&amp;start=62&amp;tbnid=fjRlTi08h2mwLM:&amp;tbnh=90&amp;tbnw=131&amp;prev=/images?q=smithsonian+exhibits&amp;start=60&amp;gbv=2&amp;ndsp=20&amp;hl=EN&amp;sa=N" TargetMode="External"/><Relationship Id="rId12" Type="http://schemas.openxmlformats.org/officeDocument/2006/relationships/image" Target="../media/image30.jpeg"/><Relationship Id="rId13" Type="http://schemas.openxmlformats.org/officeDocument/2006/relationships/hyperlink" Target="http://images.google.com/imgres?imgurl=http://gnsi.science-art.com/GNSIDC/reports/2002Jan/Exhibit_b.jpg&amp;imgrefurl=http://gnsi.science-art.com/GNSIDC/reports/2002Jan/jan2002pt2.html&amp;usg=__PaGZbWhQ7aOovRU6ZoaU2tdavGM=&amp;h=432&amp;w=576&amp;sz=56&amp;hl=EN&amp;start=76&amp;tbnid=GjVgPA5tkgjnbM:&amp;tbnh=101&amp;tbnw=134&amp;prev=/images?q=smithsonian+exhibits&amp;start=60&amp;gbv=2&amp;ndsp=20&amp;hl=EN&amp;sa=N" TargetMode="External"/><Relationship Id="rId14" Type="http://schemas.openxmlformats.org/officeDocument/2006/relationships/image" Target="../media/image31.jpeg"/><Relationship Id="rId15" Type="http://schemas.openxmlformats.org/officeDocument/2006/relationships/hyperlink" Target="http://images.google.com/imgres?imgurl=http://lh3.ggpht.com/_1QZCA3zFRVY/RrkGyH85y5I/AAAAAAAAAOM/1ctxPgJR7L8/DSC_0443.JPG&amp;imgrefurl=http://picasaweb.google.com/lh/photo/Uo1pkR7uTGhJTWp1ykvcyg&amp;usg=__YP7pjKT5k5J-JZz5jed3TjrI_IQ=&amp;h=1064&amp;w=1600&amp;sz=11&amp;hl=EN&amp;start=98&amp;tbnid=lDI38UkC0ys4-M:&amp;tbnh=100&amp;tbnw=150&amp;prev=/images?q=smithsonian+exhibits&amp;start=80&amp;gbv=2&amp;ndsp=20&amp;hl=EN&amp;sa=N" TargetMode="External"/><Relationship Id="rId16" Type="http://schemas.openxmlformats.org/officeDocument/2006/relationships/image" Target="../media/image32.jpeg"/><Relationship Id="rId17" Type="http://schemas.openxmlformats.org/officeDocument/2006/relationships/hyperlink" Target="http://images.google.com/imgres?imgurl=http://cache.daylife.com/imageserve/06LQ2Vl5LB43m/610x.jpg&amp;imgrefurl=http://www.daylife.com/photo/06LQ2Vl5LB43m&amp;usg=__Srqg66oLGYE6ONQSItSyiH6Uz98=&amp;h=398&amp;w=610&amp;sz=93&amp;hl=EN&amp;start=176&amp;tbnid=J5f1qEIkqNY53M:&amp;tbnh=89&amp;tbnw=136&amp;prev=/images?q=smithsonian+exhibits&amp;start=160&amp;gbv=2&amp;ndsp=20&amp;hl=EN&amp;sa=N" TargetMode="External"/><Relationship Id="rId18" Type="http://schemas.openxmlformats.org/officeDocument/2006/relationships/image" Target="../media/image33.jpeg"/><Relationship Id="rId19" Type="http://schemas.openxmlformats.org/officeDocument/2006/relationships/hyperlink" Target="http://images.google.com/imgres?imgurl=http://www.riehlife.com/wp-content/uploads/2007/12/eric-long-smithsonian-flag-_95.gif&amp;imgrefurl=http://www.riehlife.com/2007/12/07/theres-a-star-spangled-banner-waving-somewhere-song-historical-notes-and-reflection-by-my-father-a-wwii-veteran/&amp;usg=__WKrgg7_D35MO_msKMYWzLS_uHiI=&amp;h=275&amp;w=261&amp;sz=53&amp;hl=EN&amp;start=206&amp;tbnid=ddxb-aHL1LtaVM:&amp;tbnh=114&amp;tbnw=108&amp;prev=/images?q=smithsonian+exhibits&amp;start=200&amp;gbv=2&amp;ndsp=20&amp;hl=EN&amp;sa=N" TargetMode="External"/><Relationship Id="rId20" Type="http://schemas.openxmlformats.org/officeDocument/2006/relationships/image" Target="../media/image34.jpeg"/><Relationship Id="rId21" Type="http://schemas.openxmlformats.org/officeDocument/2006/relationships/hyperlink" Target="http://images.google.com/imgres?imgurl=http://seattletimes.nwsource.com/ABPub/2007/11/19/2004023395.jpg&amp;imgrefurl=http://seattletimes.nwsource.com/html/travel/2004025334_webmuseumair20.html&amp;usg=__Xo6lQfSRUe0dw6bgGNOEwyrU3_Q=&amp;h=197&amp;w=296&amp;sz=17&amp;hl=EN&amp;start=235&amp;tbnid=B9Pp8UxuhrEl_M:&amp;tbnh=77&amp;tbnw=116&amp;prev=/images?q=smithsonian+exhibits&amp;start=220&amp;gbv=2&amp;ndsp=20&amp;hl=EN&amp;sa=N" TargetMode="External"/><Relationship Id="rId22" Type="http://schemas.openxmlformats.org/officeDocument/2006/relationships/image" Target="../media/image35.jpeg"/><Relationship Id="rId23" Type="http://schemas.openxmlformats.org/officeDocument/2006/relationships/hyperlink" Target="http://images.google.com/imgres?imgurl=http://www.chicago-l.org/museums/smithsonian/Smithsonian-CTA_bus01.jpg&amp;imgrefurl=http://www.chicago-l.org/museums/smithsonian.html&amp;usg=__aRYfxIhRNQov6WPPmaXjWsihMZs=&amp;h=675&amp;w=900&amp;sz=133&amp;hl=EN&amp;start=245&amp;tbnid=tymx4r5zhFM96M:&amp;tbnh=109&amp;tbnw=146&amp;prev=/images?q=smithsonian+exhibits&amp;start=240&amp;gbv=2&amp;ndsp=20&amp;hl=EN&amp;sa=N" TargetMode="External"/><Relationship Id="rId24" Type="http://schemas.openxmlformats.org/officeDocument/2006/relationships/image" Target="../media/image36.jpeg"/><Relationship Id="rId25" Type="http://schemas.openxmlformats.org/officeDocument/2006/relationships/hyperlink" Target="http://images.google.com/imgres?imgurl=http://www.civicfest.org/images/exhibits/W_The-White-House_full.jpg&amp;imgrefurl=http://www.civicfest.org/exhibits.html&amp;usg=__5_s37k5CwcAfAtMlzTnJQozqHKQ=&amp;h=562&amp;w=640&amp;sz=115&amp;hl=EN&amp;start=263&amp;tbnid=FEifrq6MHN84tM:&amp;tbnh=120&amp;tbnw=137&amp;prev=/images?q=smithsonian+exhibits&amp;start=260&amp;gbv=2&amp;ndsp=20&amp;hl=EN&amp;sa=N" TargetMode="External"/><Relationship Id="rId26" Type="http://schemas.openxmlformats.org/officeDocument/2006/relationships/image" Target="../media/image37.jpeg"/><Relationship Id="rId27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Hot%20Potatoes/Strongest_One.htm" TargetMode="Externa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122&amp;task=viewList&amp;listId=354203" TargetMode="External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122&amp;task=viewList&amp;listId=354203" TargetMode="External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52.xml"/><Relationship Id="rId3" Type="http://schemas.openxmlformats.org/officeDocument/2006/relationships/slide" Target="slide100.xml"/><Relationship Id="rId4" Type="http://schemas.openxmlformats.org/officeDocument/2006/relationships/slide" Target="slide143.xml"/><Relationship Id="rId5" Type="http://schemas.openxmlformats.org/officeDocument/2006/relationships/slide" Target="slide165.xml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akewoodconferences.com/direct/dbimage/10220444/FE_Series_Floor_Powerful_Electric_Fan.jpg&amp;imgrefurl=http://www.lakewoodconferences.com/catalog/17/791/draught_fan.html&amp;usg=__8oeF840P7bDwXRslH62d27ETfGw=&amp;h=360&amp;w=360&amp;sz=29&amp;hl=EN&amp;start=1&amp;tbnid=8IU6o787gcb12M:&amp;tbnh=121&amp;tbnw=121&amp;prev=/images?q=fan&amp;gbv=2&amp;hl=EN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images.google.com/imgres?imgurl=http://www.gadgetvenue.com/wp-content/uploads/2008/11/digital-thermoter-pan.jpg&amp;imgrefurl=http://www.gadgetvenue.com/digital-thermometer-pan-11051037/&amp;usg=__wHn_KOqOMRjgFL2C-Ij2VDJ7Tqs=&amp;h=326&amp;w=300&amp;sz=34&amp;hl=EN&amp;start=5&amp;tbnid=SqWU4ciDoP23OM:&amp;tbnh=118&amp;tbnw=109&amp;prev=/images?q=pan&amp;gbv=2&amp;hl=EN" TargetMode="External"/><Relationship Id="rId4" Type="http://schemas.openxmlformats.org/officeDocument/2006/relationships/image" Target="../media/image40.jpeg"/><Relationship Id="rId5" Type="http://schemas.openxmlformats.org/officeDocument/2006/relationships/hyperlink" Target="http://images.google.com/imgres?imgurl=http://www.bourgetbros.com/site-admin/images_lotus/02122008-1232041_Java%2520Sticks%2520-%2520Tan%2520Marble.jpg&amp;imgrefurl=http://www.bourgetbros.com/category_products.php?idcat=683&amp;usg=__DmB31l4tWjz-3DXYtXZXGKZFKbg=&amp;h=450&amp;w=600&amp;sz=114&amp;hl=EN&amp;start=32&amp;tbnid=5k_dhaMxkMIJOM:&amp;tbnh=101&amp;tbnw=135&amp;prev=/images?q=tan&amp;gbv=2&amp;ndsp=20&amp;hl=EN&amp;sa=N&amp;start=20" TargetMode="External"/><Relationship Id="rId6" Type="http://schemas.openxmlformats.org/officeDocument/2006/relationships/image" Target="../media/image41.jpeg"/><Relationship Id="rId7" Type="http://schemas.openxmlformats.org/officeDocument/2006/relationships/hyperlink" Target="http://images.google.com/imgres?imgurl=http://1.bp.blogspot.com/_KM2n7lFVl5I/Rtoy8CwECQI/AAAAAAAABM0/vDHfV_htYs4/s640/VW+Van.JPG&amp;imgrefurl=http://nyc2dailyphoto.blogspot.com/2007/09/groovy-for-60s.html&amp;usg=__GF0QLxLS6vk6FBFAtZIGWwl-aLY=&amp;h=480&amp;w=640&amp;sz=93&amp;hl=EN&amp;start=14&amp;tbnid=kqXz-yaLNCxy-M:&amp;tbnh=103&amp;tbnw=137&amp;prev=/images?q=vw+van&amp;gbv=2&amp;hl=EN" TargetMode="External"/><Relationship Id="rId8" Type="http://schemas.openxmlformats.org/officeDocument/2006/relationships/image" Target="../media/image42.jpeg"/><Relationship Id="rId9" Type="http://schemas.openxmlformats.org/officeDocument/2006/relationships/hyperlink" Target="http://images.google.com/imgres?imgurl=http://www.ericgiguere.com/images/all-bran-front-400-619.jpg&amp;imgrefurl=http://www.ericgiguere.com/essays/cereal-box-celebrity-front.html&amp;usg=__-gODroiU7ODjYYcXil5NNFfE1gs=&amp;h=619&amp;w=400&amp;sz=67&amp;hl=EN&amp;start=6&amp;tbnid=zMGuMck1Ewa5wM:&amp;tbnh=136&amp;tbnw=88&amp;prev=/images?q=bran&amp;gbv=2&amp;hl=EN" TargetMode="External"/><Relationship Id="rId10" Type="http://schemas.openxmlformats.org/officeDocument/2006/relationships/image" Target="../media/image43.jpeg"/><Relationship Id="rId11" Type="http://schemas.openxmlformats.org/officeDocument/2006/relationships/hyperlink" Target="http://images.google.com/imgres?imgurl=http://jnch.nic.in/CT-Scan.jpg&amp;imgrefurl=http://jnch.nic.in/infra.htm&amp;usg=__suTSlDDT6DZU-zE-mdTyF6fnxBc=&amp;h=605&amp;w=901&amp;sz=54&amp;hl=EN&amp;start=19&amp;tbnid=fY-O8OH8T9VcVM:&amp;tbnh=98&amp;tbnw=146&amp;prev=/images?q=scan&amp;gbv=2&amp;hl=EN" TargetMode="External"/><Relationship Id="rId12" Type="http://schemas.openxmlformats.org/officeDocument/2006/relationships/image" Target="../media/image44.jpeg"/><Relationship Id="rId13" Type="http://schemas.openxmlformats.org/officeDocument/2006/relationships/hyperlink" Target="http://images.google.com/imgres?imgurl=http://www.mta.info/mta/news/releases/images/Harlem%2520Lift%2520Span.Lift%2520action.jpg&amp;imgrefurl=http://www.mta.info/mta/news/releases/?en=080617-BT&amp;usg=__MkV4nqoQYYYqRBP4BEQXPU6D8_E=&amp;h=691&amp;w=922&amp;sz=196&amp;hl=EN&amp;start=11&amp;tbnid=ikNrbFsH8F1LdM:&amp;tbnh=110&amp;tbnw=147&amp;prev=/images?q=span&amp;gbv=2&amp;hl=EN" TargetMode="External"/><Relationship Id="rId14" Type="http://schemas.openxmlformats.org/officeDocument/2006/relationships/image" Target="../media/image45.jpeg"/><Relationship Id="rId1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Hot%20Potatoes/Strongest_One.htm" TargetMode="External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When we are searching for answers, whom can we ask?</a:t>
            </a:r>
            <a:br>
              <a:rPr sz="3200"/>
            </a:br>
            <a:r>
              <a:rPr b="1" i="1" lang="en-US" sz="2400" spc="-1" strike="noStrike">
                <a:solidFill>
                  <a:srgbClr val="ff6633"/>
                </a:solidFill>
                <a:latin typeface="Arial"/>
              </a:rPr>
              <a:t>Click to listen to story.</a:t>
            </a:r>
            <a:endParaRPr b="1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pic>
        <p:nvPicPr>
          <p:cNvPr id="89" name="Picture 12" descr="tocstrongestone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895480" y="1828800"/>
            <a:ext cx="3463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Monday</a:t>
            </a:r>
            <a:br>
              <a:rPr sz="3600"/>
            </a:b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676520" y="1981080"/>
          <a:ext cx="6095880" cy="3581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you wonder about some things?  Do you know why your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ey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ometimes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ate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n a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arm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ay?  When we are searching for answers, whom can we ask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9"/>
          <p:cNvSpPr/>
          <p:nvPr/>
        </p:nvSpPr>
        <p:spPr>
          <a:xfrm>
            <a:off x="312408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Wednes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600200" y="2209680"/>
          <a:ext cx="6095880" cy="2590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59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inosaur eggs hatched!  Did that really happen?  Or did Ollie just think it did?  Listen again.  See what you think!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Wednes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914400" y="2209680"/>
          <a:ext cx="7620120" cy="3200400"/>
        </p:xfrm>
        <a:graphic>
          <a:graphicData uri="http://schemas.openxmlformats.org/drawingml/2006/table">
            <a:tbl>
              <a:tblPr/>
              <a:tblGrid>
                <a:gridCol w="762012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inosaur eggs hatched!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exclama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 that really happen?  Or did Ollie just think it did?  Listen again.  See what you think!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Wednes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914400" y="2209680"/>
          <a:ext cx="7620120" cy="3200400"/>
        </p:xfrm>
        <a:graphic>
          <a:graphicData uri="http://schemas.openxmlformats.org/drawingml/2006/table">
            <a:tbl>
              <a:tblPr/>
              <a:tblGrid>
                <a:gridCol w="762012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inosaur eggs hatched!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exclama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 that really happen?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ques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did Ollie just think it did?  Listen again.  See what you think!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Wednes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914400" y="2209680"/>
          <a:ext cx="7620120" cy="3200400"/>
        </p:xfrm>
        <a:graphic>
          <a:graphicData uri="http://schemas.openxmlformats.org/drawingml/2006/table">
            <a:tbl>
              <a:tblPr/>
              <a:tblGrid>
                <a:gridCol w="762012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inosaur eggs hatched!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exclama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 that really happen?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ques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did Ollie just think it did?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ques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en again.  See what you think!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Wednes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914400" y="2209680"/>
          <a:ext cx="7620120" cy="3200400"/>
        </p:xfrm>
        <a:graphic>
          <a:graphicData uri="http://schemas.openxmlformats.org/drawingml/2006/table">
            <a:tbl>
              <a:tblPr/>
              <a:tblGrid>
                <a:gridCol w="762012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inosaur eggs hatched!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exclama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 that really happen?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ques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did Ollie just think it did?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ques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en again.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comma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what you think!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Wednes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533520" y="2209680"/>
          <a:ext cx="8153280" cy="3200400"/>
        </p:xfrm>
        <a:graphic>
          <a:graphicData uri="http://schemas.openxmlformats.org/drawingml/2006/table">
            <a:tbl>
              <a:tblPr/>
              <a:tblGrid>
                <a:gridCol w="81532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inosaur eggs hatched!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exclama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 that really happen?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ques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did Ollie just think it did?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ques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en again.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comma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what you think!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comma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&amp; exclama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oday we will learn about: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azing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ected en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nant digraph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-frequency w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onym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s and excla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Exploring Space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Wednesday</a:t>
            </a:r>
            <a:br>
              <a:rPr sz="3600"/>
            </a:b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828800" y="2895480"/>
          <a:ext cx="6095880" cy="1067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geniu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gen – 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who is very, very smart can be called a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geni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it would take a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geni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figure out this math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geni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es up with good solutions to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satisfaction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at – is – fac - 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feel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atisf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you are pleased and contented with some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am got great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atisf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winning the g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gave me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atisf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do so well on the spelling 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oday we will learn about: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mazing w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nant digraph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sm and fantasy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s and excla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00"/>
                </a:solidFill>
                <a:latin typeface="Arial"/>
              </a:rPr>
              <a:t>Read-Aloud</a:t>
            </a:r>
            <a:endParaRPr b="1" lang="en-US" sz="5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33"/>
                </a:solidFill>
                <a:latin typeface="Arial"/>
              </a:rPr>
              <a:t>All Alone in Dinosaur H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Exploring Space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Monday</a:t>
            </a:r>
            <a:br>
              <a:rPr sz="3600"/>
            </a:b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828800" y="2895480"/>
          <a:ext cx="6095880" cy="1067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lued the two parts _______ and made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lued the two parts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oge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made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___ of pizza would you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lued the two parts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oge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made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pie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pizza would you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 plays the piano, and I want to ____ how to play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lued the two parts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oge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made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pie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pizza would you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 plays the piano, and I want to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lea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w to play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going to bed because I am ___ slee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lued the two parts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oge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made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pie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pizza would you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 plays the piano, and I want to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lea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w to play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going to bed because I am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lee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d will have to take me to school because the bus has already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delicat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del – i - 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that is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del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in and easily broken. 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Del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s the opposite of stur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mom says to be very careful with that old vase because it’s so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del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areful not to step on the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del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lowers in the ga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d will have to take me to school because the bus has alread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g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o to the library as ____ as I 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d will have to take me to school because the bus has alread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g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o to the library as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I 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is a fun day even _____ it is 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d will have to take me to school because the bus has alread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g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o to the library as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I 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is a fun day even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h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 is 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533520" y="1219320"/>
          <a:ext cx="2514600" cy="419076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ord Wall Word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n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3581280" y="1066680"/>
          <a:ext cx="5257800" cy="4614840"/>
        </p:xfrm>
        <a:graphic>
          <a:graphicData uri="http://schemas.openxmlformats.org/drawingml/2006/table">
            <a:tbl>
              <a:tblPr/>
              <a:tblGrid>
                <a:gridCol w="52578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6633"/>
                          </a:solidFill>
                          <a:uFillTx/>
                          <a:latin typeface="Arial"/>
                          <a:hlinkClick r:id="rId1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ch          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t              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             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ch           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isk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w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ri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Word Family Word – best</a:t>
            </a:r>
            <a:br>
              <a:rPr sz="4400"/>
            </a:br>
            <a:r>
              <a:rPr b="0" lang="en-US" sz="1600" spc="-1" strike="noStrike" u="sng">
                <a:solidFill>
                  <a:srgbClr val="ff6633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1523880" y="1371600"/>
          <a:ext cx="6359760" cy="4076640"/>
        </p:xfrm>
        <a:graphic>
          <a:graphicData uri="http://schemas.openxmlformats.org/drawingml/2006/table">
            <a:tbl>
              <a:tblPr/>
              <a:tblGrid>
                <a:gridCol w="2119320"/>
                <a:gridCol w="2121120"/>
                <a:gridCol w="2119320"/>
              </a:tblGrid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v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qu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c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Word Family Word – best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5" descr="Jester%252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6440" y="3581280"/>
            <a:ext cx="1000080" cy="15242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7" descr="nest00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1447920"/>
            <a:ext cx="2228760" cy="16794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9" descr="radpes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24480" y="1447920"/>
            <a:ext cx="2238480" cy="16747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1" descr="ladies_vest_powderblu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53080" y="3581280"/>
            <a:ext cx="1121040" cy="16002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3" descr="oak-hope-chest-kit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62120" y="1447920"/>
            <a:ext cx="1596960" cy="16761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5" descr="Bolton-Wanderers%403"/>
          <p:cNvPicPr/>
          <p:nvPr/>
        </p:nvPicPr>
        <p:blipFill>
          <a:blip r:embed="rId11"/>
          <a:stretch/>
        </p:blipFill>
        <p:spPr>
          <a:xfrm>
            <a:off x="3733920" y="358128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16"/>
          <p:cNvSpPr/>
          <p:nvPr/>
        </p:nvSpPr>
        <p:spPr>
          <a:xfrm>
            <a:off x="1041840" y="3124080"/>
            <a:ext cx="10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4154760" y="3124080"/>
            <a:ext cx="9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6975000" y="3124080"/>
            <a:ext cx="91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19"/>
          <p:cNvSpPr/>
          <p:nvPr/>
        </p:nvSpPr>
        <p:spPr>
          <a:xfrm>
            <a:off x="1447920" y="510552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20"/>
          <p:cNvSpPr/>
          <p:nvPr/>
        </p:nvSpPr>
        <p:spPr>
          <a:xfrm>
            <a:off x="4087080" y="533412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21"/>
          <p:cNvSpPr/>
          <p:nvPr/>
        </p:nvSpPr>
        <p:spPr>
          <a:xfrm>
            <a:off x="6672600" y="5181480"/>
            <a:ext cx="89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Spelling Words: Consonant Digaphs</a:t>
            </a: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Which spelling word rhymes with:</a:t>
            </a:r>
            <a:endParaRPr b="1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676160" y="1294920"/>
            <a:ext cx="2819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p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w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bu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wh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c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Synonym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words mean almost the same thing.  These words are called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just read “The Strongest One.”  What are some synonyms for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stro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dnesday’s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es an ant bite ic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Does an ant bite itch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, it stings to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Oh, it stings too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entence that tells someone to do something.  It ends with a period.  The subject of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ut you is usually not sh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la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entence that shows surprise or strong feelings.  It begins with a capital letter and ends with an exclamation ma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inquir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in - qu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Inqui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s to ask questions or to try to find out some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dad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inqui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 the soccer sched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teacher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inqui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ther I had done all my hom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balls and glo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Get the balls and glo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have a good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Let’s have a good ga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na threw the ball to Ke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Tina threw the ball to Kev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hit him on the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It hit him on the a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h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That hu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Wrap Up Your Day!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sm and Fant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ion and Into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alk About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orrow they will hear more about someone searching for answers in a story called “Can Hens Give Milk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Wednesday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synonyms in sentences about being the strongest one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Thurs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animals eat the strangest things!  Today we will read about the anteater.  Anteaters search for food in an unusual way.  How do you think anteaters search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Thurs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animals eat the </a:t>
                      </a:r>
                      <a:r>
                        <a:rPr b="0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trange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ings!  Today we will read about the anteater.  Anteaters search for food in an unusual way.  How do you think anteaters search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Thurs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animals eat the strangest things!  Today we will read about the anteater.  Anteaters search for food in an </a:t>
                      </a:r>
                      <a:r>
                        <a:rPr b="0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unusua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ay.  How do you think anteaters search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oday we will learn about: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nant digraph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s and exclam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and answer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00"/>
                </a:solidFill>
                <a:latin typeface="Arial"/>
              </a:rPr>
              <a:t>Read-Aloud</a:t>
            </a:r>
            <a:endParaRPr b="1" lang="en-US" sz="5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33"/>
                </a:solidFill>
                <a:latin typeface="Arial"/>
              </a:rPr>
              <a:t>Can Hens Give Mil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Sentence Reading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 Mitch catch that fish in the water by the sh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 get sleepy I stretch and then shut my 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to see if these buns are fresh and wa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Sentence Reading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imals by the shrubs had thin le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ke up early and then I brush my 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rash bin was full of cans we had to wash and cru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sturdy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tur - 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that is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tur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trong and sol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stand on that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tur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nch to reach the cupbo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tur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ee in the park was not affected by the big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Spelling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on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graph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two or three letters that make one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533520" y="1219320"/>
          <a:ext cx="2514600" cy="419076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ord Wall Word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n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3581280" y="1066680"/>
          <a:ext cx="5257800" cy="4614840"/>
        </p:xfrm>
        <a:graphic>
          <a:graphicData uri="http://schemas.openxmlformats.org/drawingml/2006/table">
            <a:tbl>
              <a:tblPr/>
              <a:tblGrid>
                <a:gridCol w="52578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ch          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t              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             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ch           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isk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w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ri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Word Family Word – drink</a:t>
            </a:r>
            <a:br>
              <a:rPr sz="4400"/>
            </a:br>
            <a:r>
              <a:rPr b="0" lang="en-US" sz="1600" spc="-1" strike="noStrike">
                <a:solidFill>
                  <a:srgbClr val="996600"/>
                </a:solidFill>
                <a:latin typeface="Verdana"/>
              </a:rPr>
              <a:t>(online dictionary)</a:t>
            </a:r>
            <a:endParaRPr b="1" lang="en-US" sz="1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1523880" y="1371600"/>
          <a:ext cx="6359760" cy="4076640"/>
        </p:xfrm>
        <a:graphic>
          <a:graphicData uri="http://schemas.openxmlformats.org/drawingml/2006/table">
            <a:tbl>
              <a:tblPr/>
              <a:tblGrid>
                <a:gridCol w="2119320"/>
                <a:gridCol w="2121120"/>
                <a:gridCol w="2119320"/>
              </a:tblGrid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k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t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c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p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Word Family Word – drink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5" descr="Norwegian_Korean_Standard_Link_Chain"/>
          <p:cNvPicPr/>
          <p:nvPr/>
        </p:nvPicPr>
        <p:blipFill>
          <a:blip r:embed="rId1"/>
          <a:stretch/>
        </p:blipFill>
        <p:spPr>
          <a:xfrm>
            <a:off x="685800" y="14479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7" descr="mink_closeup"/>
          <p:cNvPicPr/>
          <p:nvPr/>
        </p:nvPicPr>
        <p:blipFill>
          <a:blip r:embed="rId2"/>
          <a:stretch/>
        </p:blipFill>
        <p:spPr>
          <a:xfrm>
            <a:off x="3048120" y="1447920"/>
            <a:ext cx="1276200" cy="17524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9" descr="Rink%2520on%2520the%2520River3"/>
          <p:cNvPicPr/>
          <p:nvPr/>
        </p:nvPicPr>
        <p:blipFill>
          <a:blip r:embed="rId3"/>
          <a:stretch/>
        </p:blipFill>
        <p:spPr>
          <a:xfrm>
            <a:off x="4724280" y="3809880"/>
            <a:ext cx="2210040" cy="16542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1" descr="oval_sink"/>
          <p:cNvPicPr/>
          <p:nvPr/>
        </p:nvPicPr>
        <p:blipFill>
          <a:blip r:embed="rId4"/>
          <a:stretch/>
        </p:blipFill>
        <p:spPr>
          <a:xfrm>
            <a:off x="6867360" y="144792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3" descr="Wink"/>
          <p:cNvPicPr/>
          <p:nvPr/>
        </p:nvPicPr>
        <p:blipFill>
          <a:blip r:embed="rId5"/>
          <a:stretch/>
        </p:blipFill>
        <p:spPr>
          <a:xfrm>
            <a:off x="685800" y="3733920"/>
            <a:ext cx="2286000" cy="1719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5" descr="20080819194232!Brink_of_the_falls,_Niagara_Falls"/>
          <p:cNvPicPr/>
          <p:nvPr/>
        </p:nvPicPr>
        <p:blipFill>
          <a:blip r:embed="rId6"/>
          <a:stretch/>
        </p:blipFill>
        <p:spPr>
          <a:xfrm>
            <a:off x="4876920" y="1447920"/>
            <a:ext cx="1415880" cy="175248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16"/>
          <p:cNvSpPr/>
          <p:nvPr/>
        </p:nvSpPr>
        <p:spPr>
          <a:xfrm>
            <a:off x="1325520" y="320040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17"/>
          <p:cNvSpPr/>
          <p:nvPr/>
        </p:nvSpPr>
        <p:spPr>
          <a:xfrm>
            <a:off x="3084120" y="312408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18"/>
          <p:cNvSpPr/>
          <p:nvPr/>
        </p:nvSpPr>
        <p:spPr>
          <a:xfrm>
            <a:off x="5145480" y="3200400"/>
            <a:ext cx="10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r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19"/>
          <p:cNvSpPr/>
          <p:nvPr/>
        </p:nvSpPr>
        <p:spPr>
          <a:xfrm>
            <a:off x="7125840" y="3276720"/>
            <a:ext cx="9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n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20"/>
          <p:cNvSpPr/>
          <p:nvPr/>
        </p:nvSpPr>
        <p:spPr>
          <a:xfrm>
            <a:off x="3091320" y="4419720"/>
            <a:ext cx="99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21"/>
          <p:cNvSpPr/>
          <p:nvPr/>
        </p:nvSpPr>
        <p:spPr>
          <a:xfrm>
            <a:off x="7040520" y="441972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Anteaters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Page 152 - 155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going to use this story to learn how to look answers to an AR 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questions and answer ch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in the story to find the ans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your answer care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5" descr="Student Pages"/>
          <p:cNvPicPr/>
          <p:nvPr/>
        </p:nvPicPr>
        <p:blipFill>
          <a:blip r:embed="rId1"/>
          <a:stretch/>
        </p:blipFill>
        <p:spPr>
          <a:xfrm>
            <a:off x="0" y="209520"/>
            <a:ext cx="914400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3" descr="Student Pages"/>
          <p:cNvPicPr/>
          <p:nvPr/>
        </p:nvPicPr>
        <p:blipFill>
          <a:blip r:embed="rId1"/>
          <a:stretch/>
        </p:blipFill>
        <p:spPr>
          <a:xfrm>
            <a:off x="0" y="209520"/>
            <a:ext cx="914400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0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ursday’s Fix-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ake me to see the anteat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9900"/>
                </a:solidFill>
                <a:latin typeface="Arial"/>
              </a:rPr>
              <a:t>Take me to see the anteat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t has such a strange sha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9900"/>
                </a:solidFill>
                <a:latin typeface="Arial"/>
              </a:rPr>
              <a:t>It has such a strange sha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entence that tells someone to do something.  It ends with a period.  The subject of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but you is usually not sh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Close the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clamation is a sentence that shows surprise or strong feelings.  It begins with a capital letter and ends with an exclamation m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I love chocolate cak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Sing with Me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going to listen to a song about how to find answers to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o Inqu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lis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5334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0" descr="Where to Inquire"/>
          <p:cNvPicPr/>
          <p:nvPr/>
        </p:nvPicPr>
        <p:blipFill>
          <a:blip r:embed="rId1"/>
          <a:srcRect l="2570" t="0" r="1274" b="8857"/>
          <a:stretch/>
        </p:blipFill>
        <p:spPr>
          <a:xfrm>
            <a:off x="4495680" y="304920"/>
            <a:ext cx="4291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62120" y="2742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also be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la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Be care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 each sentence.</a:t>
            </a:r>
            <a:endParaRPr b="1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that ante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Look at that ante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h, he looks so st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Oh, he looks so strang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him some 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Find him some 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w, see how long his tongu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wow, see how long his tongue 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5" dur="indefinite" restart="never" nodeType="tmRoot">
          <p:childTnLst>
            <p:seq>
              <p:cTn id="1396" dur="indefinite" nodeType="mainSeq">
                <p:childTnLst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Speaking and Listening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reasons for asking ques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ask or answer a question, you should always be pol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polit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the person spe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9" dur="indefinite" restart="never" nodeType="tmRoot">
          <p:childTnLst>
            <p:seq>
              <p:cTn id="1430" dur="indefinite" nodeType="mainSeq">
                <p:childTnLst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Wrap Up Your Day!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alk About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eard a story about two foolish people who thought hens could give milk.  Tomorrow you will hear about Shlomo and Rivka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7" dur="indefinite" restart="never" nodeType="tmRoot">
          <p:childTnLst>
            <p:seq>
              <p:cTn id="1448" dur="indefinite" nodeType="mainSeq">
                <p:childTnLst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Thurs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about having fun in 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rdy tree house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Fri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week we read about asking questions.  What did we find out about whom we can ask when we are looking for answers?  Where can we inquir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oday we will learn about: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nant digraphs ch, tch, sh, th, w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-frequency word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 word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azing word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s and exclamation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1" dur="indefinite" restart="never" nodeType="tmRoot">
          <p:childTnLst>
            <p:seq>
              <p:cTn id="1462" dur="indefinite" nodeType="mainSeq">
                <p:childTnLst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onsonant Digraph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bush has thick branc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bu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thi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branch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d gave Beth fish and chi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d gave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Beth fis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 chi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se things belong to my friend Sh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Those th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long to my friend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Sha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dog uses its mouth and teeth to catch the sti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dog uses its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mou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tee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ca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ti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7" dur="indefinite" restart="never" nodeType="tmRoot">
          <p:childTnLst>
            <p:seq>
              <p:cTn id="1488" dur="indefinite" nodeType="mainSeq">
                <p:childTnLst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3200400" y="1676520"/>
          <a:ext cx="3124080" cy="401796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40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u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ge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c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se broke into many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onsonant Digraph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s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know about reading these wo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we’ll learn about words that begin and end with two or three consonants that stand for a single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se broke into man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pie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lay with my friend Cole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se broke into man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pie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lay with my friend Col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trong even ____ I am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se broke into man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pie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lay with my friend Col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trong even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h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am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teacher helps me ____ my m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se broke into man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pie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lay with my friend Col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trong even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h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am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teacher helps m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lea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m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e is all _____ n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se broke into man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pie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lay with my friend Col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trong even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h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am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teacher helps m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lea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m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e is all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g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dress is _____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se broke into man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pie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lay with my friend Col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trong even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h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am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teacher helps m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lea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m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e is all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g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dress is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nd I can work _____ on the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se broke into man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pie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lay with my friend Col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trong even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h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am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teacher helps m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lea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m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e is all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g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dress is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nd I can work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oge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the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533520" y="1219320"/>
          <a:ext cx="2514600" cy="419076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ord Wall Word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n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3581280" y="1066680"/>
          <a:ext cx="5257800" cy="4614840"/>
        </p:xfrm>
        <a:graphic>
          <a:graphicData uri="http://schemas.openxmlformats.org/drawingml/2006/table">
            <a:tbl>
              <a:tblPr/>
              <a:tblGrid>
                <a:gridCol w="52578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ch          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t              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             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ch           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isk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w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ri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riday’s Fix-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ok for ants near tre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9900"/>
                </a:solidFill>
                <a:latin typeface="Arial"/>
              </a:rPr>
              <a:t>Look for ants near tree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tch out, they bi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9900"/>
                </a:solidFill>
                <a:latin typeface="Arial"/>
              </a:rPr>
              <a:t>Watch out, they bit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Map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m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outline picture of a place as if it were taken from the 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map k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ws which symbol stands for places and things on the m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compass ro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ll the directions on the m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3" dur="indefinite" restart="never" nodeType="tmRoot">
          <p:childTnLst>
            <p:seq>
              <p:cTn id="1544" dur="indefinite" nodeType="mainSeq">
                <p:childTnLst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09880" y="304560"/>
            <a:ext cx="45720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onant digraphs consist of unlike consonants that stand for a single sound that is different from each consonant al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C:\Users\Freida Lewis\Desktop\sound cards\Card 7.jpg"/>
          <p:cNvPicPr/>
          <p:nvPr/>
        </p:nvPicPr>
        <p:blipFill>
          <a:blip r:embed="rId1"/>
          <a:srcRect l="115" t="0" r="0" b="11366"/>
          <a:stretch/>
        </p:blipFill>
        <p:spPr>
          <a:xfrm>
            <a:off x="460440" y="304920"/>
            <a:ext cx="2963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Wrap Up Your Week!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33"/>
                </a:solidFill>
                <a:latin typeface="Arial"/>
              </a:rPr>
              <a:t>Let’s Talk 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33"/>
                </a:solidFill>
                <a:latin typeface="Arial"/>
              </a:rPr>
              <a:t>Expl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Review Game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cabulary &amp; Amazing Wo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ig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lling Wo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ia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lling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Frequency Wo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t Potatoes (fill-in-the-blan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Fri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about something delicate that becomes sturdy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PTPlus Videos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Password Required)</a:t>
            </a: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457200" y="1828800"/>
          <a:ext cx="8305920" cy="365760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sop's Fables (13:00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tion to Picture Books: Books About Real Things (08:59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or Zoologist: Insects (11:2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. Dad's PH3: Episode 10: Animal Architecture (14:45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bout Animals: Insects (12:00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7" name="Rectangle 9"/>
          <p:cNvSpPr/>
          <p:nvPr/>
        </p:nvSpPr>
        <p:spPr>
          <a:xfrm>
            <a:off x="315288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We are now ready to take our story tests.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68360" y="1981080"/>
            <a:ext cx="6189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y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room webpag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pag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aking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Reading Quiz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z # 9046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onsonant Digraph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p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be spelled with the letter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word pitch, the letter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nd for /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Small Group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6633"/>
                </a:solidFill>
                <a:uFillTx/>
                <a:latin typeface="Arial"/>
                <a:hlinkClick r:id="rId1"/>
              </a:rPr>
              <a:t>Tim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09880" y="304920"/>
            <a:ext cx="45720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nant digraphs consist of two unlike consonants that stand for a single sound that is different from either consonant al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u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Content Placeholder 6" descr="card 32.jpg"/>
          <p:cNvPicPr/>
          <p:nvPr/>
        </p:nvPicPr>
        <p:blipFill>
          <a:blip r:embed="rId1"/>
          <a:srcRect l="0" t="0" r="0" b="15851"/>
          <a:stretch/>
        </p:blipFill>
        <p:spPr>
          <a:xfrm>
            <a:off x="380880" y="228600"/>
            <a:ext cx="3125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86200" y="228240"/>
            <a:ext cx="4572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mo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nant digraphs consist of two unlike consonants that stand for a single sound that is different from either consonant al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u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i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Content Placeholder 6" descr="card 34.jpg"/>
          <p:cNvPicPr/>
          <p:nvPr/>
        </p:nvPicPr>
        <p:blipFill>
          <a:blip r:embed="rId1"/>
          <a:srcRect l="0" t="0" r="0" b="11111"/>
          <a:stretch/>
        </p:blipFill>
        <p:spPr>
          <a:xfrm>
            <a:off x="304920" y="304920"/>
            <a:ext cx="3308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86200" y="228240"/>
            <a:ext cx="4572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tters wh may b pronounced /hw/ or  /w/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Content Placeholder 6" descr="card 41.jpg"/>
          <p:cNvPicPr/>
          <p:nvPr/>
        </p:nvPicPr>
        <p:blipFill>
          <a:blip r:embed="rId1"/>
          <a:srcRect l="0" t="0" r="0" b="10849"/>
          <a:stretch/>
        </p:blipFill>
        <p:spPr>
          <a:xfrm>
            <a:off x="304920" y="304920"/>
            <a:ext cx="3405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onsonant Digraph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hark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tter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nd for the sound /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thermo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tter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nd for the sound /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wh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tter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nd for the sound /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onsonant Digraph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828800" y="121932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23920" y="1143000"/>
            <a:ext cx="3124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u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Verdana"/>
              </a:rPr>
              <a:t>Review Game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920" y="990360"/>
            <a:ext cx="3124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cabulary &amp; Amazing Wo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1"/>
              </a:rPr>
              <a:t>Arcade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2"/>
              </a:rPr>
              <a:t>Jig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3"/>
              </a:rPr>
              <a:t>Match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4"/>
              </a:rPr>
              <a:t>Speed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5"/>
              </a:rPr>
              <a:t>Word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6"/>
              </a:rPr>
              <a:t>Word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7"/>
              </a:rPr>
              <a:t>Spelling City – vocabulary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8"/>
              </a:rPr>
              <a:t>Spelling City – amazing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05160" y="990360"/>
            <a:ext cx="37335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lling Wo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9"/>
              </a:rPr>
              <a:t>Speed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10"/>
              </a:rPr>
              <a:t>Word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11"/>
              </a:rPr>
              <a:t>Quia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12"/>
              </a:rPr>
              <a:t>Spelling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 Frequency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13"/>
              </a:rPr>
              <a:t>Fill-in-the Bl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14"/>
              </a:rPr>
              <a:t>Spelling C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Word Reading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676520" y="1371600"/>
            <a:ext cx="2590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57800" y="1371240"/>
            <a:ext cx="2286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533520" y="1219320"/>
          <a:ext cx="2514600" cy="419076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ord Wall Word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n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581280" y="1066680"/>
          <a:ext cx="5257800" cy="4614840"/>
        </p:xfrm>
        <a:graphic>
          <a:graphicData uri="http://schemas.openxmlformats.org/drawingml/2006/table">
            <a:tbl>
              <a:tblPr/>
              <a:tblGrid>
                <a:gridCol w="52578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6633"/>
                          </a:solidFill>
                          <a:uFillTx/>
                          <a:latin typeface="Arial"/>
                          <a:hlinkClick r:id="rId1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ch          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t              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             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ch           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isk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w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ri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Word Family Word – stop</a:t>
            </a:r>
            <a:br>
              <a:rPr sz="4400"/>
            </a:br>
            <a:r>
              <a:rPr b="0" lang="en-US" sz="1600" spc="-1" strike="noStrike" u="sng">
                <a:solidFill>
                  <a:srgbClr val="ff6633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523880" y="1371600"/>
          <a:ext cx="6359760" cy="4089240"/>
        </p:xfrm>
        <a:graphic>
          <a:graphicData uri="http://schemas.openxmlformats.org/drawingml/2006/table">
            <a:tbl>
              <a:tblPr/>
              <a:tblGrid>
                <a:gridCol w="2119320"/>
                <a:gridCol w="2121120"/>
                <a:gridCol w="2119320"/>
              </a:tblGrid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c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c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d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f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g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p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p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Word Family Word – stop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3392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1981080"/>
            <a:ext cx="960480" cy="1600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swing-dance-classes-lindy-hop-image-100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057400" y="1981080"/>
            <a:ext cx="1438200" cy="1600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HA01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400800" y="1981080"/>
            <a:ext cx="2057400" cy="1710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ddf77a49fe560c6eb1177d9ae21dd80c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295280" y="4114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shop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505320" y="4114800"/>
            <a:ext cx="2133360" cy="1433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7" descr="LeekChop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477120" y="4114800"/>
            <a:ext cx="1695240" cy="1278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9" descr="subsequent%2520crop%2520growth,%252007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3962520" y="1981080"/>
            <a:ext cx="2133360" cy="16066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20"/>
          <p:cNvSpPr/>
          <p:nvPr/>
        </p:nvSpPr>
        <p:spPr>
          <a:xfrm>
            <a:off x="794520" y="3581280"/>
            <a:ext cx="7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2392560" y="350532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2"/>
          <p:cNvSpPr/>
          <p:nvPr/>
        </p:nvSpPr>
        <p:spPr>
          <a:xfrm>
            <a:off x="4534560" y="358128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6967440" y="365760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1624320" y="541008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6"/>
          <p:cNvSpPr/>
          <p:nvPr/>
        </p:nvSpPr>
        <p:spPr>
          <a:xfrm>
            <a:off x="4083840" y="556272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7"/>
          <p:cNvSpPr/>
          <p:nvPr/>
        </p:nvSpPr>
        <p:spPr>
          <a:xfrm>
            <a:off x="6823440" y="533412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048120" y="1066680"/>
          <a:ext cx="3276360" cy="4614840"/>
        </p:xfrm>
        <a:graphic>
          <a:graphicData uri="http://schemas.openxmlformats.org/drawingml/2006/table">
            <a:tbl>
              <a:tblPr/>
              <a:tblGrid>
                <a:gridCol w="327636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Amaz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c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qu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r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ib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isf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Rectangle 15"/>
          <p:cNvSpPr/>
          <p:nvPr/>
        </p:nvSpPr>
        <p:spPr>
          <a:xfrm>
            <a:off x="6324480" y="14479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Word Family Word – into</a:t>
            </a:r>
            <a:br>
              <a:rPr sz="4400"/>
            </a:br>
            <a:r>
              <a:rPr b="0" lang="en-US" sz="1600" spc="-1" strike="noStrike" u="sng">
                <a:solidFill>
                  <a:srgbClr val="ff6633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523880" y="1371600"/>
          <a:ext cx="6359760" cy="4076640"/>
        </p:xfrm>
        <a:graphic>
          <a:graphicData uri="http://schemas.openxmlformats.org/drawingml/2006/table">
            <a:tbl>
              <a:tblPr/>
              <a:tblGrid>
                <a:gridCol w="2119320"/>
                <a:gridCol w="2121120"/>
                <a:gridCol w="2119320"/>
              </a:tblGrid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t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g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k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Verdana"/>
              </a:rPr>
              <a:t>Word Family Word – into</a:t>
            </a:r>
            <a:br>
              <a:rPr sz="4000"/>
            </a:b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Plastic_Trash_Can__Dustbin__Garbage_Can__Waste_Bin__Garbage_Containe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13716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dorsal_fin_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666880" y="3581280"/>
            <a:ext cx="1828800" cy="1332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cotton_gin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62520" y="1371600"/>
            <a:ext cx="1523880" cy="1471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safety_pin_300px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443720" y="1371600"/>
            <a:ext cx="1033560" cy="1447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tin-can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62120" y="3581280"/>
            <a:ext cx="1600200" cy="1293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6" descr="shin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514600" y="1371600"/>
            <a:ext cx="893880" cy="15238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8" descr="chin2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705720" y="3657600"/>
            <a:ext cx="1828800" cy="1125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0" descr="Bonobo%252011yo%2520male%2520Keke%2520%26%25202yo%2520female%2520Bokela%2520grin%2520Twycross%2520727a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5943600" y="1371600"/>
            <a:ext cx="1308240" cy="1523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2" descr="19679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4724280" y="3581280"/>
            <a:ext cx="1676520" cy="13384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3"/>
          <p:cNvSpPr/>
          <p:nvPr/>
        </p:nvSpPr>
        <p:spPr>
          <a:xfrm>
            <a:off x="1092960" y="289548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4"/>
          <p:cNvSpPr/>
          <p:nvPr/>
        </p:nvSpPr>
        <p:spPr>
          <a:xfrm>
            <a:off x="2554920" y="28954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5"/>
          <p:cNvSpPr/>
          <p:nvPr/>
        </p:nvSpPr>
        <p:spPr>
          <a:xfrm>
            <a:off x="3742560" y="2895480"/>
            <a:ext cx="182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tton 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6"/>
          <p:cNvSpPr/>
          <p:nvPr/>
        </p:nvSpPr>
        <p:spPr>
          <a:xfrm>
            <a:off x="6204240" y="2895480"/>
            <a:ext cx="8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7"/>
          <p:cNvSpPr/>
          <p:nvPr/>
        </p:nvSpPr>
        <p:spPr>
          <a:xfrm>
            <a:off x="7646040" y="281952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8"/>
          <p:cNvSpPr/>
          <p:nvPr/>
        </p:nvSpPr>
        <p:spPr>
          <a:xfrm>
            <a:off x="851400" y="4952880"/>
            <a:ext cx="14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n 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29"/>
          <p:cNvSpPr/>
          <p:nvPr/>
        </p:nvSpPr>
        <p:spPr>
          <a:xfrm>
            <a:off x="3222360" y="4952880"/>
            <a:ext cx="6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0"/>
          <p:cNvSpPr/>
          <p:nvPr/>
        </p:nvSpPr>
        <p:spPr>
          <a:xfrm>
            <a:off x="5144760" y="487692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1"/>
          <p:cNvSpPr/>
          <p:nvPr/>
        </p:nvSpPr>
        <p:spPr>
          <a:xfrm>
            <a:off x="7275600" y="4876920"/>
            <a:ext cx="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Let’s Talk About </a:t>
            </a:r>
            <a:br>
              <a:rPr sz="4000"/>
            </a:br>
            <a:r>
              <a:rPr b="1" lang="en-US" sz="4000" spc="-1" strike="noStrike">
                <a:solidFill>
                  <a:srgbClr val="ff6633"/>
                </a:solidFill>
                <a:latin typeface="Arial"/>
              </a:rPr>
              <a:t>Exploration!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Student Pages"/>
          <p:cNvPicPr/>
          <p:nvPr/>
        </p:nvPicPr>
        <p:blipFill>
          <a:blip r:embed="rId1"/>
          <a:stretch/>
        </p:blipFill>
        <p:spPr>
          <a:xfrm>
            <a:off x="0" y="90360"/>
            <a:ext cx="9144000" cy="64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Realism and Fantasy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kinds of made-up stories—those that could really happen and those that could never hap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realistic s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lls about something that could hap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fantas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tory about something that could not hap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readers look for clues that tell them whether a story could really happen or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00"/>
                </a:solidFill>
                <a:latin typeface="Arial"/>
              </a:rPr>
              <a:t>Read-Aloud</a:t>
            </a:r>
            <a:endParaRPr b="1" lang="en-US" sz="5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990360" y="19051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33"/>
                </a:solidFill>
                <a:latin typeface="Arial"/>
              </a:rPr>
              <a:t>A N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33"/>
                </a:solidFill>
                <a:latin typeface="Arial"/>
              </a:rPr>
              <a:t>Place to Sl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nday’s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 you really believe that s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Do you really believe that stor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 animal can’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25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An animal can’t really talk</a:t>
            </a:r>
            <a:r>
              <a:rPr b="1" lang="en-US" sz="6100" spc="-1" strike="noStrike">
                <a:solidFill>
                  <a:srgbClr val="669900"/>
                </a:solidFill>
                <a:latin typeface="Arial"/>
              </a:rPr>
              <a:t>.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entence that tells someone to do something.  It ends with a period.  The subject of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but you is usually not sh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Pack your suitc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la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entence that shows surprise or strong feelings.  It begins with a capital letter and ends with an exclamation m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What a great trip this will b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I can’t wait to g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your ca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Bring your cam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your jacket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Put your jacket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w, I am so exc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Wow, I am so excit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819520" y="1143000"/>
          <a:ext cx="3504960" cy="4038480"/>
        </p:xfrm>
        <a:graphic>
          <a:graphicData uri="http://schemas.openxmlformats.org/drawingml/2006/table">
            <a:tbl>
              <a:tblPr/>
              <a:tblGrid>
                <a:gridCol w="3504960"/>
              </a:tblGrid>
              <a:tr h="40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6633"/>
                          </a:solidFill>
                          <a:uFillTx/>
                          <a:latin typeface="Arial"/>
                          <a:hlinkClick r:id="rId1"/>
                        </a:rPr>
                        <a:t>Vocabular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rrato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gerou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naw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15"/>
          <p:cNvSpPr/>
          <p:nvPr/>
        </p:nvSpPr>
        <p:spPr>
          <a:xfrm>
            <a:off x="6324480" y="14479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Wrap Up Your Day!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nant Di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sm and Fant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alk About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orrow the class will read a fantasy about an ant that wants to know who is the strongest one in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Monday</a:t>
            </a:r>
            <a:br>
              <a:rPr sz="3600"/>
            </a:b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600200" y="2209680"/>
          <a:ext cx="6095880" cy="32133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 things you would li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inquire about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Tuesday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ay we will read a fantasy about an ant with a question.  Whom does the ant check with to find the answer?  What does he find out?  Why is the ant shocked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Tuesday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ay we will read a fantasy about an ant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it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 question.  Whom does the ant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ec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ith to find the answer?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a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oes he find out?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y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the ant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ocke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oday we will learn about: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azing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nant digraph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sm and fantas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 and fix 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-frequency w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 word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s and excla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Exploring Space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Tuesday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828800" y="2895480"/>
          <a:ext cx="6095880" cy="1067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6633"/>
                </a:solidFill>
                <a:uFillTx/>
                <a:latin typeface="Arial"/>
                <a:hlinkClick r:id="rId1" action="ppaction://hlinksldjump"/>
              </a:rPr>
              <a:t>exhibit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ex – hib -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exhib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omething set up for you to look at in a place like a museum or z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ere amazed at the size of the dinosaur we saw in the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exhib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favorite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exhib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the zoo is the monkey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exhibit</a:t>
            </a:r>
            <a:r>
              <a:rPr b="1" lang="en-US" sz="4000" spc="-1" strike="noStrike" u="sng">
                <a:solidFill>
                  <a:srgbClr val="ff6633"/>
                </a:solidFill>
                <a:uFillTx/>
                <a:latin typeface="Arial"/>
                <a:hlinkClick r:id="rId1" action="ppaction://hlinksldjump"/>
              </a:rPr>
              <a:t>_x000b_</a:t>
            </a: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(Smithsonian, Washington D.C.)</a:t>
            </a:r>
            <a:endParaRPr b="1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685800" y="1294920"/>
            <a:ext cx="7772400" cy="43434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7" descr="Smithsonian%252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4280040"/>
            <a:ext cx="1981080" cy="13208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9" descr="IMG_062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629400" y="4284720"/>
            <a:ext cx="1809720" cy="1363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1" descr="391576985RuMUYj_f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5800" y="4159080"/>
            <a:ext cx="1981080" cy="14796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3" descr="smithsonian-dinosaur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" y="2819520"/>
            <a:ext cx="2057400" cy="12556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5" descr="2_15_jrduckstamp-2005-l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85800" y="1295280"/>
            <a:ext cx="2057400" cy="1413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7" descr="Exhibit_b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819520" y="1295280"/>
            <a:ext cx="2133360" cy="16081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9" descr="DSC_0443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477120" y="1295280"/>
            <a:ext cx="1962000" cy="1308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1" descr="610x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895480" y="2971800"/>
            <a:ext cx="1828800" cy="1197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3" descr="eric-long-smithsonian-flag-_95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029200" y="1295280"/>
            <a:ext cx="1300320" cy="16002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5" descr="2004023395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6477120" y="2743200"/>
            <a:ext cx="2019240" cy="1339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7" descr="Smithsonian-CTA_bus01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876920" y="4419720"/>
            <a:ext cx="1600200" cy="1193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9" descr="W_The-White-House_full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4876920" y="2971800"/>
            <a:ext cx="152388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resist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re - s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res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mething, you work against it because you don’t wa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ouldn’t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res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ughing out loud at the cl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are healthy, your body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resis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tting si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stun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t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are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tunn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you are shocked and very surpri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s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tunn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I found out my favorite teacher was lea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sister was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tunn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she won the pr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14600" y="1066680"/>
          <a:ext cx="4267080" cy="461484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46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6633"/>
                          </a:solidFill>
                          <a:uFillTx/>
                          <a:latin typeface="Arial"/>
                          <a:hlinkClick r:id="rId1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ug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geth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t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c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Rectangle 39"/>
          <p:cNvSpPr/>
          <p:nvPr/>
        </p:nvSpPr>
        <p:spPr>
          <a:xfrm>
            <a:off x="6324480" y="14479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00"/>
                </a:solidFill>
                <a:latin typeface="Arial"/>
              </a:rPr>
              <a:t>Read-Aloud</a:t>
            </a:r>
            <a:endParaRPr b="1" lang="en-US" sz="5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990360" y="19051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33"/>
                </a:solidFill>
                <a:latin typeface="Arial"/>
              </a:rPr>
              <a:t>A N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33"/>
                </a:solidFill>
                <a:latin typeface="Arial"/>
              </a:rPr>
              <a:t>Place to Sl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onsonant Digraph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read this word because you know how to read words with consonant digraph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ound do the letter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nd for in this wo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onsonant Digraph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come to a new word, look at the word parts from left to right and think about the consonant digraph s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 the sounds in the word to yourself and then read the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</a:t>
            </a:r>
            <a:br>
              <a:rPr sz="4000"/>
            </a:b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 two or three consonants that stand for a single sound</a:t>
            </a:r>
            <a:endParaRPr b="1" lang="en-US" sz="2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p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chi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h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wh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th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0" y="160020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ch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sh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th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wh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clu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Phonics Song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you listen to our poem, find words with a consonant di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Can We Tu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lis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1640" y="533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Phonics Songs and Rhymes Chart 5"/>
          <p:cNvPicPr/>
          <p:nvPr/>
        </p:nvPicPr>
        <p:blipFill>
          <a:blip r:embed="rId1"/>
          <a:srcRect l="0" t="0" r="0" b="9414"/>
          <a:stretch/>
        </p:blipFill>
        <p:spPr>
          <a:xfrm>
            <a:off x="4611600" y="228600"/>
            <a:ext cx="42465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Find the consonant digraphs in “Where Can We Turn?”</a:t>
            </a:r>
            <a:endParaRPr b="1" lang="en-US" sz="2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w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0" y="167652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h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3520" y="1219320"/>
          <a:ext cx="2514600" cy="419076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ord Wall Word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n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581280" y="1066680"/>
          <a:ext cx="5257800" cy="4614840"/>
        </p:xfrm>
        <a:graphic>
          <a:graphicData uri="http://schemas.openxmlformats.org/drawingml/2006/table">
            <a:tbl>
              <a:tblPr/>
              <a:tblGrid>
                <a:gridCol w="52578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6633"/>
                          </a:solidFill>
                          <a:uFillTx/>
                          <a:latin typeface="Arial"/>
                          <a:hlinkClick r:id="rId1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ch          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t              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             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ch           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isk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w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ri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oug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oug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533520" y="1219320"/>
          <a:ext cx="2514600" cy="419076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ord Wall Word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n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3581280" y="1066680"/>
          <a:ext cx="5257800" cy="4614840"/>
        </p:xfrm>
        <a:graphic>
          <a:graphicData uri="http://schemas.openxmlformats.org/drawingml/2006/table">
            <a:tbl>
              <a:tblPr/>
              <a:tblGrid>
                <a:gridCol w="52578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6633"/>
                          </a:solidFill>
                          <a:uFillTx/>
                          <a:latin typeface="Arial"/>
                          <a:hlinkClick r:id="rId1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ch          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t              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             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ch           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isk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w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ri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Word Family Word – than</a:t>
            </a:r>
            <a:br>
              <a:rPr sz="4400"/>
            </a:br>
            <a:r>
              <a:rPr b="0" lang="en-US" sz="1600" spc="-1" strike="noStrike" u="sng">
                <a:solidFill>
                  <a:srgbClr val="ff6633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523880" y="1371600"/>
          <a:ext cx="6359760" cy="4467240"/>
        </p:xfrm>
        <a:graphic>
          <a:graphicData uri="http://schemas.openxmlformats.org/drawingml/2006/table">
            <a:tbl>
              <a:tblPr/>
              <a:tblGrid>
                <a:gridCol w="2119320"/>
                <a:gridCol w="2121120"/>
                <a:gridCol w="2119320"/>
              </a:tblGrid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v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c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p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8880" y="9903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Big Question: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When we are searching for answers, </a:t>
            </a:r>
            <a:br>
              <a:rPr sz="2800"/>
            </a:b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whom can we ask?</a:t>
            </a:r>
            <a:endParaRPr b="1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00040" y="2666880"/>
            <a:ext cx="70930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33"/>
                </a:solidFill>
                <a:uFillTx/>
                <a:latin typeface="Arial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33"/>
                </a:solidFill>
                <a:uFillTx/>
                <a:latin typeface="Arial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33"/>
                </a:solidFill>
                <a:uFillTx/>
                <a:latin typeface="Arial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33"/>
                </a:solidFill>
                <a:uFillTx/>
                <a:latin typeface="Arial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33"/>
                </a:solidFill>
                <a:uFillTx/>
                <a:latin typeface="Arial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Word Family Word – than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5" descr="FE_Series_Floor_Powerful_Electric_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5238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digital-thermoter-pa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1523880"/>
            <a:ext cx="1336680" cy="14479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02122008-1232041_Java%2520Sticks%2520-%2520Tan%2520Marbl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666880" y="1523880"/>
            <a:ext cx="1981440" cy="14828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VW%2BVa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914400" y="3733920"/>
            <a:ext cx="1914480" cy="14396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3" descr="all-bran-front-400-619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396200" y="1523880"/>
            <a:ext cx="1035000" cy="16002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5" descr="CT-Scan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505320" y="3657600"/>
            <a:ext cx="2286000" cy="15350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7" descr="Harlem%2520Lift%2520Span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400800" y="3733920"/>
            <a:ext cx="2009880" cy="150336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18"/>
          <p:cNvSpPr/>
          <p:nvPr/>
        </p:nvSpPr>
        <p:spPr>
          <a:xfrm>
            <a:off x="1168560" y="3048120"/>
            <a:ext cx="7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19"/>
          <p:cNvSpPr/>
          <p:nvPr/>
        </p:nvSpPr>
        <p:spPr>
          <a:xfrm>
            <a:off x="3299400" y="2971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20"/>
          <p:cNvSpPr/>
          <p:nvPr/>
        </p:nvSpPr>
        <p:spPr>
          <a:xfrm>
            <a:off x="5592240" y="297180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21"/>
          <p:cNvSpPr/>
          <p:nvPr/>
        </p:nvSpPr>
        <p:spPr>
          <a:xfrm>
            <a:off x="7503120" y="3124080"/>
            <a:ext cx="9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22"/>
          <p:cNvSpPr/>
          <p:nvPr/>
        </p:nvSpPr>
        <p:spPr>
          <a:xfrm>
            <a:off x="2003400" y="5402160"/>
            <a:ext cx="18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23"/>
          <p:cNvSpPr/>
          <p:nvPr/>
        </p:nvSpPr>
        <p:spPr>
          <a:xfrm>
            <a:off x="3892320" y="5181480"/>
            <a:ext cx="15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t 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24"/>
          <p:cNvSpPr/>
          <p:nvPr/>
        </p:nvSpPr>
        <p:spPr>
          <a:xfrm>
            <a:off x="1404000" y="51814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25"/>
          <p:cNvSpPr/>
          <p:nvPr/>
        </p:nvSpPr>
        <p:spPr>
          <a:xfrm>
            <a:off x="7054920" y="5257800"/>
            <a:ext cx="9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onsonant Digraph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ill you do that ma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you do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ma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sh I could chase a wha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wi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could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ch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wha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them to pick a bunch from the pa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th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ick a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bun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e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pa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Realism and Fantasy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kinds of made-up stories—those that could really happen and those that could never hap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realistic s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lls about something that could hap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fantas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tory about something that could not hap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readers look for clues that tell them whether a story could really happen or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Monitor and Fix Up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be better readers by thinking about whether or not you understand what you read as you rea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ing attention to the illustrations (pictures) and to which character is talking are two ways you can help yourself understand what you are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2514600" y="1066680"/>
          <a:ext cx="4267080" cy="461484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46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6633"/>
                          </a:solidFill>
                          <a:uFillTx/>
                          <a:latin typeface="Arial"/>
                          <a:hlinkClick r:id="rId1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ug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geth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t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c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Rectangle 9"/>
          <p:cNvSpPr/>
          <p:nvPr/>
        </p:nvSpPr>
        <p:spPr>
          <a:xfrm>
            <a:off x="6324480" y="14479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High-Frequency Word Review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47920" y="1371600"/>
            <a:ext cx="304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024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Vocabulary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Arial"/>
              </a:rPr>
              <a:t>narra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erson who tells a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Arial"/>
              </a:rPr>
              <a:t>relati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eople in the same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Arial"/>
              </a:rPr>
              <a:t>danger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not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Arial"/>
              </a:rPr>
              <a:t>gnaw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bites at or wears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Vocabulary</a:t>
            </a:r>
            <a:br>
              <a:rPr sz="4400"/>
            </a:b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dangerous, gnaws, relatives, narrator </a:t>
            </a:r>
            <a:endParaRPr b="1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 is the ______ of our class 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Vocabulary</a:t>
            </a:r>
            <a:br>
              <a:rPr sz="4400"/>
            </a:b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dangerous, gnaws, relatives, narrator </a:t>
            </a:r>
            <a:endParaRPr b="1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 is th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narra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our class 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ay is about a family with lots of 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Vocabulary</a:t>
            </a:r>
            <a:br>
              <a:rPr sz="4400"/>
            </a:b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dangerous, gnaws, relatives, narrator </a:t>
            </a:r>
            <a:endParaRPr b="1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 is th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narra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our class 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ay is about a family with lots of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relati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boys in the family has a ______ pet r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Monday</a:t>
            </a:r>
            <a:br>
              <a:rPr sz="3600"/>
            </a:b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676520" y="1981080"/>
          <a:ext cx="6095880" cy="3581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you wonder about some things?  Do you know why your eyes sometimes water on a warm day?  When we are searching for answers, whom can we ask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Rectangle 15"/>
          <p:cNvSpPr/>
          <p:nvPr/>
        </p:nvSpPr>
        <p:spPr>
          <a:xfrm>
            <a:off x="312408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Vocabulary</a:t>
            </a:r>
            <a:br>
              <a:rPr sz="4400"/>
            </a:b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dangerous, gnaws, relatives, narrator </a:t>
            </a:r>
            <a:endParaRPr b="1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 is th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narra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our class 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ay is about a family with lots of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relati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boys in the family has a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danger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t r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t rat _____ the legs of 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Vocabulary</a:t>
            </a:r>
            <a:br>
              <a:rPr sz="4400"/>
            </a:b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dangerous, gnaws, relatives, narrator </a:t>
            </a:r>
            <a:endParaRPr b="1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 is th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narra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our class 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ay is about a family with lots of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relati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boys in the family has a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danger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t r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t rat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gnaw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legs of 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uesday’s Fix-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time does the game sta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What time does the game star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et 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Get the ball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entence that tells someone to do something.  It ends with a period.  The subject of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but you is usually not sh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Look at that suns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la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entence that shows surprise or strong feelings.  It begins with a capital letter and ends with an exclamation m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It is so beauti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62120" y="2742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also be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la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to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me a bas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Get me a bas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s a huge bas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That is a huge bask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in the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Put in the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6212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the 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Bring the 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no, I dropped the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Oh no, I dropped the fo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Wrap Up Your Day!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-Frequency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 and Fix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alk About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orrow we will find out more about searching for answers in “All Alone in Dinosaur Hal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Tuesday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about a person or animal who is strongest of all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2-09-08T22:39:16Z</dcterms:modified>
  <cp:revision>27</cp:revision>
  <dc:subject/>
  <dc:title>Slide 1</dc:title>
</cp:coreProperties>
</file>